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6840" y="13791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03336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60988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684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03336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60988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6840" y="13791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3336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0988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3336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0988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03336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60988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684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03336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60988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6840" y="13791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03336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60988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684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03336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60988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6840" y="13791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03336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60988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684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03336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60988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6840" y="13791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03336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60988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684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03336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60988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3791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3336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0988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84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3336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60988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3791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3336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0988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03336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60988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13791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3336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0988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684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03336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60988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6840" y="13791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3791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03336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60988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684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03336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60988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6840" y="13791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03336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60988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684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03336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60988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6840" y="13791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3336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60988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684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03336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60988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6840" y="13791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6840" y="4277160"/>
            <a:ext cx="762012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361760" y="270468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361760" y="4277160"/>
            <a:ext cx="371844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03336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609880" y="270468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684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03336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609880" y="4277160"/>
            <a:ext cx="2453400" cy="14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550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550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55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147"/>
                </a:solidFill>
                <a:latin typeface="Arial"/>
              </a:rPr>
              <a:t>Volunteer Leaders Retre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147"/>
                </a:solidFill>
                <a:latin typeface="Arial"/>
              </a:rPr>
              <a:t>Volunteer Leaders Retre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550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550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55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147"/>
                </a:solidFill>
                <a:latin typeface="Arial"/>
              </a:rPr>
              <a:t>Volunteer Leaders Retre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550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550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55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147"/>
                </a:solidFill>
                <a:latin typeface="Arial"/>
              </a:rPr>
              <a:t>Volunteer Leaders Retre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550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550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55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147"/>
                </a:solidFill>
                <a:latin typeface="Arial"/>
              </a:rPr>
              <a:t>Volunteer Leaders Retre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2057400" y="304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 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550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550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55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147"/>
                </a:solidFill>
                <a:latin typeface="Arial"/>
              </a:rPr>
              <a:t>Volunteer Leaders Retre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550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550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55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147"/>
                </a:solidFill>
                <a:latin typeface="Arial"/>
              </a:rPr>
              <a:t>Volunteer Leaders Retre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550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550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55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147"/>
                </a:solidFill>
                <a:latin typeface="Arial"/>
              </a:rPr>
              <a:t>Volunteer Leaders Retre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550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550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55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147"/>
                </a:solidFill>
                <a:latin typeface="Arial"/>
              </a:rPr>
              <a:t>Volunteer Leaders Retre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550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550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55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147"/>
                </a:solidFill>
                <a:latin typeface="Arial"/>
              </a:rPr>
              <a:t>Volunteer Leaders Retre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550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550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55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147"/>
                </a:solidFill>
                <a:latin typeface="Arial"/>
              </a:rPr>
              <a:t>Volunteer Leaders Retre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550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550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55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147"/>
                </a:solidFill>
                <a:latin typeface="Arial"/>
              </a:rPr>
              <a:t>Volunteer Leaders Retre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550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550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55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147"/>
                </a:solidFill>
                <a:latin typeface="Arial"/>
              </a:rPr>
              <a:t>Volunteer Leaders Retre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ubtitle 2"/>
          <p:cNvSpPr/>
          <p:nvPr/>
        </p:nvSpPr>
        <p:spPr>
          <a:xfrm>
            <a:off x="1981080" y="228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550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550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55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ihra.org/resources" TargetMode="External"/><Relationship Id="rId2" Type="http://schemas.openxmlformats.org/officeDocument/2006/relationships/hyperlink" Target="mailto:mariah@pihra.org" TargetMode="External"/><Relationship Id="rId3" Type="http://schemas.openxmlformats.org/officeDocument/2006/relationships/hyperlink" Target="mailto:brian@pihra.org" TargetMode="External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ihra.org/resources" TargetMode="Externa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rian@pihra.org" TargetMode="External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mailto:vpmembership@pihra.org" TargetMode="External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mailto:vpfinance@pihra.org" TargetMode="External"/><Relationship Id="rId2" Type="http://schemas.openxmlformats.org/officeDocument/2006/relationships/hyperlink" Target="mailto:president@pihra.org" TargetMode="External"/><Relationship Id="rId3" Type="http://schemas.openxmlformats.org/officeDocument/2006/relationships/hyperlink" Target="mailto:rafael@pihra.org" TargetMode="External"/><Relationship Id="rId4" Type="http://schemas.openxmlformats.org/officeDocument/2006/relationships/hyperlink" Target="mailto:jbenefield@affinipay.com" TargetMode="External"/><Relationship Id="rId5" Type="http://schemas.openxmlformats.org/officeDocument/2006/relationships/hyperlink" Target="mailto:chapmun@pihra.org" TargetMode="External"/><Relationship Id="rId6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Volunteer Leaders Retreat</a:t>
            </a: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	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January 12,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Box 3"/>
          <p:cNvSpPr/>
          <p:nvPr/>
        </p:nvSpPr>
        <p:spPr>
          <a:xfrm>
            <a:off x="762120" y="1219320"/>
            <a:ext cx="7696080" cy="40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n All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pihra.org/resour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raphics Manuals, Logos, Letterhead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iah Hayden, MBA (Website assistanc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ariah@pihra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an Allain (Business Development Manager / Home Offic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brian@pihra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Mariah Hayden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Microsit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mariah@pihr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Mariah Hayden (Bieber)</a:t>
            </a:r>
            <a:br>
              <a:rPr sz="3200"/>
            </a:b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About Me: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Consultant (Jill of Trades)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Past District 14  Chair and Executive Board Member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Former board member, Cal State SHRM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Key Projects: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            -PIHRA website and microsite launch and training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-Branding and Microsite manuals author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Responsibilities</a:t>
            </a:r>
            <a:br>
              <a:rPr sz="4600"/>
            </a:b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6840" y="2704680"/>
            <a:ext cx="84582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Arial"/>
              </a:rPr>
              <a:t>Microsite training and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Arial"/>
              </a:rPr>
              <a:t>Support to Valerie on Listserv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Arial"/>
              </a:rPr>
              <a:t>May pop up on other projects….PIHRA phantom employ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Goals</a:t>
            </a: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	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6840" y="1218960"/>
            <a:ext cx="762012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Arial"/>
              </a:rPr>
              <a:t>Consistency in Microsite and registration uti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Arial"/>
              </a:rPr>
              <a:t>Volunteers regularly accessing tools at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pihra.org/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Arial"/>
              </a:rPr>
              <a:t>Communication and Treasurer Chairs communicating with district boar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Arial"/>
              </a:rPr>
              <a:t>Streamline District registration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hapmun Yiu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Accounting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chapmun@pihr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(310) 416-1210 ext. 8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hristy Coe</a:t>
            </a:r>
            <a:br>
              <a:rPr sz="6100"/>
            </a:b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embership Manager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christy@PIHRA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310.416.1210, ext. 8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f497d"/>
                </a:solidFill>
                <a:latin typeface="Arial"/>
              </a:rPr>
              <a:t>Roles and Responsibilities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761760" y="2590920"/>
            <a:ext cx="7848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all aspects of Members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and enhance member benefit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 &amp; Retain PIHRA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 District meetings to promote PIH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closely with VP of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f497d"/>
                </a:solidFill>
                <a:latin typeface="Arial"/>
              </a:rPr>
              <a:t>2013 Goals and Objectives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762120" y="2666880"/>
            <a:ext cx="6858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 Membership Goal:  3,6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Anniversary Renew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New Member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Tuto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&amp; Execute Campa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Valerie Hamilton - Membership Coordinator</a:t>
            </a:r>
            <a:br>
              <a:rPr sz="1600"/>
            </a:br>
            <a:br>
              <a:rPr sz="1600"/>
            </a:br>
            <a:r>
              <a:rPr b="0" lang="en-US" sz="1600" spc="-1" strike="noStrike" u="sng">
                <a:solidFill>
                  <a:srgbClr val="1f497d"/>
                </a:solidFill>
                <a:uFillTx/>
                <a:latin typeface="Arial"/>
              </a:rPr>
              <a:t>Duties:</a:t>
            </a:r>
            <a:br>
              <a:rPr sz="1600"/>
            </a:b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 - Membership: process membership applications, renewals, changes, suspensions, membership cards, send rosters and new member listings to districts, Listserv Administrator</a:t>
            </a:r>
            <a:br>
              <a:rPr sz="1600"/>
            </a:b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 - Programs: process registrations, substitutions and cancellations; coordinate volunteers</a:t>
            </a:r>
            <a:br>
              <a:rPr sz="1600"/>
            </a:b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 -  Administrative: general offce duties</a:t>
            </a:r>
            <a:br>
              <a:rPr sz="1600"/>
            </a:b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 - Financials: send bank statements to district treasurers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Staff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Arial"/>
              </a:rPr>
              <a:t>Paulette Fontanez, CMP</a:t>
            </a:r>
            <a:br>
              <a:rPr sz="4800"/>
            </a:br>
            <a:r>
              <a:rPr b="0" lang="en-US" sz="4800" spc="-1" strike="noStrike">
                <a:solidFill>
                  <a:srgbClr val="1f497d"/>
                </a:solidFill>
                <a:latin typeface="Arial"/>
              </a:rPr>
              <a:t>Program Manager</a:t>
            </a:r>
            <a:endParaRPr b="0" lang="en-US" sz="4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64612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Responsible for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Working with VP Education to create content for annual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Managing all speakers and other logistics for events, including meals (bacon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Reviewing and processing HRCI requests for Distr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Arial"/>
              </a:rPr>
              <a:t>Paulette Fontanez, CMP</a:t>
            </a:r>
            <a:br>
              <a:rPr sz="4800"/>
            </a:br>
            <a:r>
              <a:rPr b="0" lang="en-US" sz="4800" spc="-1" strike="noStrike">
                <a:solidFill>
                  <a:srgbClr val="1f497d"/>
                </a:solidFill>
                <a:latin typeface="Arial"/>
              </a:rPr>
              <a:t>Program Manager</a:t>
            </a:r>
            <a:endParaRPr b="0" lang="en-US" sz="4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64612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Managing speaker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Sourcing monthly webinar speakers and advertising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Ensuring certification of PHO and District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Arial"/>
              </a:rPr>
              <a:t>Paulette Fontanez, CMP</a:t>
            </a:r>
            <a:br>
              <a:rPr sz="4800"/>
            </a:br>
            <a:r>
              <a:rPr b="0" lang="en-US" sz="4800" spc="-1" strike="noStrike">
                <a:solidFill>
                  <a:srgbClr val="1f497d"/>
                </a:solidFill>
                <a:latin typeface="Arial"/>
              </a:rPr>
              <a:t>Program Manager</a:t>
            </a:r>
            <a:endParaRPr b="0" lang="en-US" sz="4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64612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Objectives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Keep Program Chairs aware of the HRCI’s 4-week approval process </a:t>
            </a:r>
            <a:r>
              <a:rPr b="0" lang="en-US" sz="2000" spc="-1" strike="noStrike">
                <a:solidFill>
                  <a:srgbClr val="89898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all request are processed by PHO within 2 business-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Speaker databas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Developing sophisticated adult learning environments for annual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Rafael Rivera,CMP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Executive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rafael@pihr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(310) 416-1210 ext.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Roles &amp; Responsibilities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2666880"/>
            <a:ext cx="365760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419720" y="2666880"/>
            <a:ext cx="365760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Mgm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sert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Objectives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member and gues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membership recruitment and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 California HR Conferenc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r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Goals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d management and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gle, Bing, Yah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ricts Vis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me know your preferred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Upgr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hra.org, microsites, cahrconference.org, MS 3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hip (3,67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to anniversary memb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 campa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rict Re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ard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ard meetings and select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geted member seg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 Emerging Professionals and Director/VP/CH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Attend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150 Legal Update, 175 Mid-Year Legal Update, 2,300 California H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Executive Committe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3"/>
          <p:cNvSpPr/>
          <p:nvPr/>
        </p:nvSpPr>
        <p:spPr>
          <a:xfrm>
            <a:off x="838080" y="1219320"/>
            <a:ext cx="769644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n All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Development Mana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brian@pihra.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(310) 416-1210 ext. 8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ed with PIHRA in February of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background in sales  and marke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helors Degree in Parks and Natural Resource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my first position with an associ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fer (always up for a roun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President Elect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President E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Marilyn A. Mona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Key President Elect Goals for 2013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 bylaw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 listser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uct annual Board el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support to President and work on any assigned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it Distri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 as ombudsperson between members and Bo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The Future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to enhance the volunteer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to enhance member bene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an advocate for PIHRA and the HR commu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 for ways in which PIHRA can serve the commu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Legislative Affairs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VP of Legislative Aff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Nicole Mink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Key LAC Goals for 2013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u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o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Inform, Educate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170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 will monitor and evaluate pending legislative, regulatory, and legal action at the federal, state, and local levels that may have an impact on the management of human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2170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 will provide to the Districts and PIHRA members written updates on legislation, regulations, and key court ca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2170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 will provide “legislative tips” to report at District meetings or to include in District newsle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Inform, Educate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1456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 members will provide monthly reports to District Boards on committee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21456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 members will report on legislative developments at monthly District meetings, if reques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21456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 will prepare e-blasts for the membership, as appropri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21456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 will sponsor a booth at the annual con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21456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 will act as a conduit for PIHRA member inquiries and input on legis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21456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Advocate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361960"/>
            <a:ext cx="7620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d PIHRA’s initiative to be the voice of the HR commu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21924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ote participation by PIHRA members in advocacy initiatives undertaken or supported by LA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21924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 members will attend the CalSHRM Legislative Conference and report back to Board and Distri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21924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P will attend SHRM Employment Law &amp; Legislative Conference and report back to Board and Distri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21924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 will promote outreach to legislators to ensure that PIHRA is known as an available resour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Committee Involvement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2008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thly telephone conferences of committee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2008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 members provide the committee with updates and input on legislative developments and LAC re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2008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 members will report monthly to District Boards (and at District meetings, if request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2008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 members will participate, if available, in CalSHRM Legislative Con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2008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 members will volunteer, if available, at LAC booth at annual con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2008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The Future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that LAC reports reach PIHRA members who attend District meetings regularly and those who do no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a catalogue of LAC reports and make it available to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established relationships with federal and state legislators in our 5 county are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up a town hall meeting on a developing legislative top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3"/>
          <p:cNvSpPr/>
          <p:nvPr/>
        </p:nvSpPr>
        <p:spPr>
          <a:xfrm>
            <a:off x="762120" y="1219320"/>
            <a:ext cx="7696080" cy="45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n All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nd maintaining relationships with HR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s: Exhibits, Sponsorships, Advertis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nerships: Marketing, Affinity Partners, Educ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Assistance: Graphics, Forms, Website, PIHRAeSco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site Event Management: Exhibitors, Registration, Logistic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160" y="1600200"/>
            <a:ext cx="7543800" cy="14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Dennis Buster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Vice President, Education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0" y="3962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2013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562720" y="1519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VP Education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2013 Objectives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0948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742680">
              <a:spcBef>
                <a:spcPts val="901"/>
              </a:spcBef>
              <a:buClr>
                <a:srgbClr val="4f81b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he drive for Educational Excellence at Annual PIHRA Conference &amp; Ex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742680">
              <a:spcBef>
                <a:spcPts val="901"/>
              </a:spcBef>
              <a:buClr>
                <a:srgbClr val="4f81b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 Speaker Microsite to PIHRA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742680">
              <a:spcBef>
                <a:spcPts val="901"/>
              </a:spcBef>
              <a:buClr>
                <a:srgbClr val="4f81b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Successor Candidate(s) for VP,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029200" y="-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VP Education</a:t>
            </a: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2013 Objectives</a:t>
            </a: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1. Annual Conference Excellence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5235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ifornia Conference” … we’ll be showing off to a bigger slice of CA’s H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one chance to make a great first i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on last year’s maiden outing and offer a robust Global Tr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certification of all breakout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s on CA and Strategic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on recent Keynote Speaker Line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800240" y="1548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VP Education</a:t>
            </a: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2013 Objectives</a:t>
            </a: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2. Speaker microsite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8088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ilur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t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will differentiate us; who else has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wider funnel for prospective speakers/presenters to enter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service” feature help to maintain current information w/o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for better service levels to District Program Ch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mately a better deliverable for ou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409720" y="-3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VP Education</a:t>
            </a: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2013 Objectives</a:t>
            </a: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3.  Identify Successor Candidates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80520" y="12189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≥ 1 candidates during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education, certification and career accomplishment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n “Global”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fortably endorses the obligation to prepare members for their “next job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s education and professional development programs as keys to PIHRA excellence and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 to s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VP of Membership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Ryan T. Gow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vpmembership@pihra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949.680.99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f497d"/>
                </a:solidFill>
                <a:latin typeface="Arial"/>
              </a:rPr>
              <a:t>Sustainable</a:t>
            </a: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1f497d"/>
                </a:solidFill>
                <a:latin typeface="Arial"/>
              </a:rPr>
              <a:t>Growth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677680"/>
            <a:ext cx="3657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Membership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Content Placeholder 9"/>
          <p:cNvGraphicFramePr/>
          <p:nvPr/>
        </p:nvGraphicFramePr>
        <p:xfrm>
          <a:off x="380880" y="3581280"/>
          <a:ext cx="3861000" cy="246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5" name="Content Placeholder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81280"/>
                    <a:ext cx="386100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419720" y="2666520"/>
            <a:ext cx="3657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Members 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Content Placeholder 10"/>
          <p:cNvGraphicFramePr/>
          <p:nvPr/>
        </p:nvGraphicFramePr>
        <p:xfrm>
          <a:off x="4370400" y="3483000"/>
          <a:ext cx="3855960" cy="2554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8" name="Content Placeholder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70400" y="3483000"/>
                    <a:ext cx="385596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f497d"/>
                </a:solidFill>
                <a:latin typeface="Arial"/>
              </a:rPr>
              <a:t>Roles and Responsibilities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2590920"/>
            <a:ext cx="3657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 &amp; Retain PIHRA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closely with District Chairs &amp; Membership Ch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 networking events to promote PIH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419720" y="2590920"/>
            <a:ext cx="3657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monthly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campa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sharing of 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 all executive board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f497d"/>
                </a:solidFill>
                <a:latin typeface="Arial"/>
              </a:rPr>
              <a:t>2013 Goals and Objectives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2666880"/>
            <a:ext cx="3657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hip Goal:  3,6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 Goal:  3,7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iversary Renew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Member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419720" y="2666880"/>
            <a:ext cx="3657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new marketing broch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2239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Soci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2239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Photos &amp; Youtube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2239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2239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ember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Lynn Hounsley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3"/>
          <p:cNvSpPr/>
          <p:nvPr/>
        </p:nvSpPr>
        <p:spPr>
          <a:xfrm>
            <a:off x="762120" y="1219320"/>
            <a:ext cx="7696080" cy="45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n All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and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Increase Reven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new sales produ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relationships with new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the value of current events and advertising through increased attendance and PIHRA memb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2209680"/>
            <a:ext cx="7543800" cy="15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WHAT TREASURERS NEED, AND NEED TO KNOW - 2013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58ed5"/>
                </a:solidFill>
                <a:latin typeface="Arial"/>
              </a:rPr>
              <a:t>RESOURCES FOR PIHRA DISTRICT BOARD TREASURE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58ed5"/>
                </a:solidFill>
                <a:latin typeface="Arial"/>
              </a:rPr>
              <a:t>Presented by:  Rachel D. Sunday – VP, Fin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6" descr=""/>
          <p:cNvPicPr/>
          <p:nvPr/>
        </p:nvPicPr>
        <p:blipFill>
          <a:blip r:embed="rId1"/>
          <a:stretch/>
        </p:blipFill>
        <p:spPr>
          <a:xfrm>
            <a:off x="1657440" y="990720"/>
            <a:ext cx="619128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Content Placeholder 4" descr=""/>
          <p:cNvPicPr/>
          <p:nvPr/>
        </p:nvPicPr>
        <p:blipFill>
          <a:blip r:embed="rId1"/>
          <a:srcRect l="990" t="0" r="990" b="0"/>
          <a:stretch/>
        </p:blipFill>
        <p:spPr>
          <a:xfrm>
            <a:off x="4572000" y="1143000"/>
            <a:ext cx="4203720" cy="24382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" descr="Screen Shot 2013-01-11 at 10.06.22 AM.png"/>
          <p:cNvPicPr/>
          <p:nvPr/>
        </p:nvPicPr>
        <p:blipFill>
          <a:blip r:embed="rId2"/>
          <a:stretch/>
        </p:blipFill>
        <p:spPr>
          <a:xfrm>
            <a:off x="533520" y="1143000"/>
            <a:ext cx="3871800" cy="31240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6" descr="Screen Shot 2013-01-11 at 10.04.16 AM.png"/>
          <p:cNvPicPr/>
          <p:nvPr/>
        </p:nvPicPr>
        <p:blipFill>
          <a:blip r:embed="rId3"/>
          <a:stretch/>
        </p:blipFill>
        <p:spPr>
          <a:xfrm>
            <a:off x="685800" y="4419720"/>
            <a:ext cx="3886200" cy="12952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7" descr="Screen Shot 2013-01-11 at 10.03.46 AM.png"/>
          <p:cNvPicPr/>
          <p:nvPr/>
        </p:nvPicPr>
        <p:blipFill>
          <a:blip r:embed="rId4"/>
          <a:stretch/>
        </p:blipFill>
        <p:spPr>
          <a:xfrm>
            <a:off x="5105520" y="4114800"/>
            <a:ext cx="34290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TREASURER FUNNIES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625" name="Picture 5" descr="Screen Shot 2013-01-11 at 10.24.31 AM.png"/>
          <p:cNvPicPr/>
          <p:nvPr/>
        </p:nvPicPr>
        <p:blipFill>
          <a:blip r:embed="rId1"/>
          <a:stretch/>
        </p:blipFill>
        <p:spPr>
          <a:xfrm>
            <a:off x="93600" y="1523880"/>
            <a:ext cx="3822840" cy="28958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Screen Shot 2013-01-11 at 10.13.07 AM.png"/>
          <p:cNvPicPr/>
          <p:nvPr/>
        </p:nvPicPr>
        <p:blipFill>
          <a:blip r:embed="rId2"/>
          <a:stretch/>
        </p:blipFill>
        <p:spPr>
          <a:xfrm>
            <a:off x="6534000" y="1600200"/>
            <a:ext cx="2610000" cy="31240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Screen Shot 2013-01-11 at 10.23.17 AM.png"/>
          <p:cNvPicPr/>
          <p:nvPr/>
        </p:nvPicPr>
        <p:blipFill>
          <a:blip r:embed="rId3"/>
          <a:stretch/>
        </p:blipFill>
        <p:spPr>
          <a:xfrm>
            <a:off x="3675240" y="4038480"/>
            <a:ext cx="3030480" cy="2543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998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THE DISK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80520" y="2087640"/>
            <a:ext cx="81536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98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147"/>
                </a:solidFill>
                <a:latin typeface="Arial"/>
              </a:rPr>
              <a:t>The disk that each district chair receives will include the following inform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147"/>
                </a:solidFill>
                <a:latin typeface="Arial"/>
              </a:rPr>
              <a:t>2013 BUDGET/FINANCIAL spreadsh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2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147"/>
                </a:solidFill>
                <a:latin typeface="Arial"/>
              </a:rPr>
              <a:t>2013 Treasurer Lis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280"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147"/>
                </a:solidFill>
                <a:latin typeface="Arial"/>
              </a:rPr>
              <a:t>Forms for Chapmun </a:t>
            </a:r>
            <a:r>
              <a:rPr b="0" i="1" lang="en-US" sz="2000" spc="-1" strike="noStrike">
                <a:solidFill>
                  <a:srgbClr val="002147"/>
                </a:solidFill>
                <a:latin typeface="Arial"/>
              </a:rPr>
              <a:t>(financial responsibility, checking account signature fo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147"/>
                </a:solidFill>
                <a:latin typeface="Arial"/>
              </a:rPr>
              <a:t>Affinipay Microsite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2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147"/>
                </a:solidFill>
                <a:latin typeface="Arial"/>
              </a:rPr>
              <a:t>PIHRA Treasurer – FA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2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147"/>
                </a:solidFill>
                <a:latin typeface="Arial"/>
              </a:rPr>
              <a:t>PIHRA Contact Sh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28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60c30"/>
                </a:solidFill>
                <a:latin typeface="Arial"/>
              </a:rPr>
              <a:t>Please make a copy or share this disk with your treasur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2013 Budget/Financials 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2013 Budget is due by 1/31/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inancials are due on the 1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f each month, for the prior month’s acti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Treasurer Listing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reasurer listing will help treasurers stay in touch with each other for questions, concerns, collaborations and sharing of ideas, forms and sugges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re is a change in treasurer role during the year, please notify the VP, Finance so that we can update our fi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2013 Required Forms</a:t>
            </a:r>
            <a:r>
              <a:rPr b="0" lang="en-US" sz="46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	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6840" y="2704680"/>
            <a:ext cx="7620120" cy="29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214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Responsibility Form – Each treasurer and/or chair are required to complete the Financial Responsibility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2214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ing Account Signature Form – Each  treasurer and/or chair are required to complete the Checking Account Signature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221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60c30"/>
                </a:solidFill>
                <a:latin typeface="Arial"/>
              </a:rPr>
              <a:t>treasurers and chairs are not to share the credit cards or checkbooks with other Board members and signors should be aware of other signors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2214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Affinipay Microsite Manual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228240" y="19810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ffinipay Microsite Manual is used to assist the treasurers in navigating through the district microsites.  It includes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205560">
              <a:spcBef>
                <a:spcPts val="550"/>
              </a:spcBef>
              <a:buClr>
                <a:srgbClr val="4f81b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205560">
              <a:spcBef>
                <a:spcPts val="550"/>
              </a:spcBef>
              <a:buClr>
                <a:srgbClr val="4f81b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205560">
              <a:spcBef>
                <a:spcPts val="550"/>
              </a:spcBef>
              <a:buClr>
                <a:srgbClr val="4f81b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205560">
              <a:spcBef>
                <a:spcPts val="550"/>
              </a:spcBef>
              <a:buClr>
                <a:srgbClr val="4f81b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205560">
              <a:spcBef>
                <a:spcPts val="550"/>
              </a:spcBef>
              <a:buClr>
                <a:srgbClr val="4f81b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nc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205560">
              <a:spcBef>
                <a:spcPts val="550"/>
              </a:spcBef>
              <a:buClr>
                <a:srgbClr val="4f81b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205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60c30"/>
                </a:solidFill>
                <a:latin typeface="Arial"/>
                <a:ea typeface="ＭＳ Ｐゴシック"/>
              </a:rPr>
              <a:t>There are reader friendly page views to help you and training will be made available in the beginning of Februar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PIHRA Frequently Asked ?s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52280" y="220968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any credit cards are each district allowed to hav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81bd"/>
                </a:solidFill>
                <a:latin typeface="Arial"/>
              </a:rPr>
              <a:t>Each district can have 2 cards and one checking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f we have to pay a speaker?  Do we pay from our budge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81bd"/>
                </a:solidFill>
                <a:latin typeface="Arial"/>
              </a:rPr>
              <a:t>If a district is paying a speaker more than $500, then the check must be processed through PIHRA home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the districts charge for “no shows”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81bd"/>
                </a:solidFill>
                <a:latin typeface="Arial"/>
              </a:rPr>
              <a:t>Yes, districts are supposed to charge for “no shows” and should have a disclaimer on their event site stating this. Verbiage should include, </a:t>
            </a:r>
            <a:r>
              <a:rPr b="0" i="1" lang="en-US" sz="2200" spc="-1" strike="noStrike">
                <a:solidFill>
                  <a:srgbClr val="4f81bd"/>
                </a:solidFill>
                <a:latin typeface="Arial"/>
              </a:rPr>
              <a:t>“We reserve the right to bill for no show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Box 3"/>
          <p:cNvSpPr/>
          <p:nvPr/>
        </p:nvSpPr>
        <p:spPr>
          <a:xfrm>
            <a:off x="762120" y="1219320"/>
            <a:ext cx="7696080" cy="40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n All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and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Greater awareness of our organiz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h out to larger, national HR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new marketing channels for membership and progra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urage more promotion through our partnering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PIHRA Frequently Asked ?s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52280" y="19047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much can each district budget for the PIHRA Foundat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Districts can budget up to $5 per me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22392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uld we budget for the SHRM Leadership Meet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Not this year.  We are investing to customize the officer development, which will include SHRM staff prese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22392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does Chapmun fit into all of thi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He does all of the necessary paperwork to open bank accounts and  collects paperwork to process new credit cards for sign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22392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volunteers required to pay for district meeting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YES!  All volunteers are required to pay for meetings.  Only the President of PIHRA and Executive Director are exe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PIHRA Frequently Asked ?s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52280" y="19047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maximum amount of time for a district meet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81bd"/>
                </a:solidFill>
                <a:latin typeface="Arial"/>
              </a:rPr>
              <a:t>Two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a district host their own type of “Legal Update”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81bd"/>
                </a:solidFill>
                <a:latin typeface="Arial"/>
              </a:rPr>
              <a:t>No.  This pulls membership from PIHRAwide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PIHRA decide on which district gets audited annuall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81bd"/>
                </a:solidFill>
                <a:latin typeface="Arial"/>
              </a:rPr>
              <a:t>No, the auditors choose the districts they audit random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can I find the information for the regular treasurer call-in meeting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ll Free Access #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-800-582-3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cipant Passco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87021447#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Contacts</a:t>
            </a:r>
            <a:r>
              <a:rPr b="0" lang="en-US" sz="46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	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80520" y="1905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9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chel Sunday – VP, Fina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yne Munyer – Presi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818) 613-786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951) 278-18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vpfinance@pihra.or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resident@pihra.or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52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2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fael Rivera – Exec. Dire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lle Benef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310) 412-1210 x 82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rafael@pihra.or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jbenefield@affinipay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pmun Yiu – Accounting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310) 416-1210 x 8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chapmun@pihra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Wayne Munyer, PHR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Arial"/>
              </a:rPr>
              <a:t>2013 Goals &amp; Objectives-President</a:t>
            </a:r>
            <a:endParaRPr b="0" lang="en-US" sz="4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>
              <a:lnSpc>
                <a:spcPct val="60000"/>
              </a:lnSpc>
              <a:spcBef>
                <a:spcPts val="326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Arial"/>
              </a:rPr>
              <a:t>   </a:t>
            </a:r>
            <a:r>
              <a:rPr b="1" lang="en-US" sz="1300" spc="-1" strike="noStrike">
                <a:solidFill>
                  <a:srgbClr val="898989"/>
                </a:solidFill>
                <a:latin typeface="Arial"/>
              </a:rPr>
              <a:t>Transparen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60000"/>
              </a:lnSpc>
              <a:spcBef>
                <a:spcPts val="326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898989"/>
                </a:solidFill>
                <a:latin typeface="Arial"/>
              </a:rPr>
              <a:t>Accountabil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60000"/>
              </a:lnSpc>
              <a:spcBef>
                <a:spcPts val="326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898989"/>
                </a:solidFill>
                <a:latin typeface="Arial"/>
              </a:rPr>
              <a:t>Bran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60000"/>
              </a:lnSpc>
              <a:spcBef>
                <a:spcPts val="326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898989"/>
                </a:solidFill>
                <a:latin typeface="Arial"/>
              </a:rPr>
              <a:t>Commitm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60000"/>
              </a:lnSpc>
              <a:spcBef>
                <a:spcPts val="326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898989"/>
                </a:solidFill>
                <a:latin typeface="Arial"/>
              </a:rPr>
              <a:t>Lev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60000"/>
              </a:lnSpc>
              <a:spcBef>
                <a:spcPts val="326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898989"/>
                </a:solidFill>
                <a:latin typeface="Arial"/>
              </a:rPr>
              <a:t>SHRM Relationship and Strateg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Transparency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ion between all Board Me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as of Concern-Let Me Kno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edback is Cri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ree to Disagr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Accountability</a:t>
            </a: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	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&amp;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ower your Bo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d by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aborate with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Branding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sites be all the s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of Payment the same (Affiniscap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Banners for all Distri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 Best Prac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Commitment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can’t do it, don’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and Listen to your Bo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action orientated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Arial"/>
              </a:rPr>
              <a:t>Levity</a:t>
            </a:r>
            <a:endParaRPr b="0" lang="en-US" sz="4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f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 the Book the Levity Effect by Adrian Gostick and Scott Christop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iends philosop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Fun and Make Me Look Good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3"/>
          <p:cNvSpPr/>
          <p:nvPr/>
        </p:nvSpPr>
        <p:spPr>
          <a:xfrm>
            <a:off x="762120" y="1219320"/>
            <a:ext cx="7696080" cy="45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n All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and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Professional Develop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te in Association Management progra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volvement in the overall operations of PIH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 with Association Professiona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1379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Arial"/>
              </a:rPr>
              <a:t>SHRM Relationship &amp; Strategies</a:t>
            </a:r>
            <a:endParaRPr b="0" lang="en-US" sz="4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2704680"/>
            <a:ext cx="762012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with National SH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with CAL SH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terly Meetings. Provide Best Practices and Areas of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499"/>
              </a:spcBef>
              <a:buClr>
                <a:srgbClr val="9bbb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499"/>
              </a:spcBef>
              <a:buClr>
                <a:srgbClr val="9bbb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Leadership Conc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499"/>
              </a:spcBef>
              <a:buClr>
                <a:srgbClr val="9bbb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al Issues/Conc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499"/>
              </a:spcBef>
              <a:buClr>
                <a:srgbClr val="9bbb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Practices to Assist Other Chapters in th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Box 3"/>
          <p:cNvSpPr/>
          <p:nvPr/>
        </p:nvSpPr>
        <p:spPr>
          <a:xfrm>
            <a:off x="762120" y="1219320"/>
            <a:ext cx="7696080" cy="33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n All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ct Micros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your website up to d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ch for alignment issues when adding a new sponsor bann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Mariah as a resource when making upd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3"/>
          <p:cNvSpPr/>
          <p:nvPr/>
        </p:nvSpPr>
        <p:spPr>
          <a:xfrm>
            <a:off x="762120" y="1219320"/>
            <a:ext cx="769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n All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ct Micros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562040" y="2209680"/>
          <a:ext cx="6096240" cy="33372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e 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e 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22:54:58Z</dcterms:created>
  <dc:creator>Rafael Rivera</dc:creator>
  <dc:description/>
  <dc:language>en-US</dc:language>
  <cp:lastModifiedBy>Rafael Rivera</cp:lastModifiedBy>
  <cp:lastPrinted>2013-01-04T17:46:42Z</cp:lastPrinted>
  <dcterms:modified xsi:type="dcterms:W3CDTF">2013-01-18T14:28:19Z</dcterms:modified>
  <cp:revision>303</cp:revision>
  <dc:subject/>
  <dc:title>PowerPoint Presentation</dc:title>
</cp:coreProperties>
</file>